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D6BE-1583-46C4-86F1-DB78A16799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A059-D445-4A5D-AB51-DF58AF96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8FC-887C-4663-880D-C97EE7DBD9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8D6C-598D-45AA-AE7E-905C42FA6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9144-DBEE-45CC-AE25-F5A9E0954B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6350-1095-47DE-9B67-A1EAAB1BDF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1B8-1064-48F6-B9F2-3A085EB0D8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5133-5E1D-4046-AF70-5C4D79F3F1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3EF-8590-4191-B5FB-3413C4DB52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F94-DA92-4598-951C-4D95140A80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100-A93A-43AC-B1CC-210247D459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LLER + infini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’abord, je vais…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52388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mettre des événements dans un ordre chronologique, on utilis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ES MOTS DE TRANSI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D’abord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regarder la télé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Ensuite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faire mes 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uis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aider ma mère avec le dîn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près ça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lire un roman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Enfin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, je vais dormi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Instructions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523880"/>
            <a:ext cx="7772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Utilisez les mots de transition pour dire à votre collègue de classe ce que tu vas faire cet aprèm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emple: D’abord, je vais…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525a28"/>
                </a:solidFill>
                <a:latin typeface="Times New Roman"/>
              </a:rPr>
              <a:t>D’abord, je vais regarder la télé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Chaque personne va dire ce qu’il/elle va faire pour chaque diapositiv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3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Qu’est-ce que tu vas faire cet aprèm?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07" name="Picture 5" descr="C:\Documents and Settings\Michael\Local Settings\Temporary Internet Files\Content.IE5\1X2V9UFE\MC900431560[1].png"/>
          <p:cNvPicPr/>
          <p:nvPr/>
        </p:nvPicPr>
        <p:blipFill>
          <a:blip r:embed="rId1"/>
          <a:stretch/>
        </p:blipFill>
        <p:spPr>
          <a:xfrm>
            <a:off x="3276720" y="22096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525a28"/>
                </a:solidFill>
                <a:latin typeface="Times New Roman"/>
              </a:rPr>
              <a:t>Changez de partenaire!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525a28"/>
                </a:solidFill>
                <a:latin typeface="Times New Roman"/>
              </a:rPr>
              <a:t>Changez de partenaire!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D’abord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suite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Puis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525a28"/>
                </a:solidFill>
                <a:latin typeface="Times New Roman"/>
              </a:rPr>
              <a:t>Enfin, je vais…</a:t>
            </a:r>
            <a:endParaRPr b="0" lang="en-US" sz="4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0666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Qu’est-ce que tu vas faire cet aprè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4T14:04:24Z</dcterms:modified>
  <cp:revision>76</cp:revision>
  <dc:subject/>
  <dc:title>Allez, viens! – Level 2</dc:title>
</cp:coreProperties>
</file>